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EB2-A3DE-4DC4-8FFB-1DB5DD0D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2C0-340B-49B3-AEEC-C56B258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10E-B02F-4E02-9DDD-0018A8F4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17F-B11C-4F8C-9856-159CF48C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0AC-D9CC-4B85-8BD6-CD855C49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CE6-3DE1-4D57-ADDD-5C6DD073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C78-B12D-40BC-84A1-6C62F821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FB3-3D78-4160-AB9A-F5B56B18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141-4BF4-43F0-88F5-3E4D08FE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F91-E663-41B4-A1AB-B2D3F98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FB7-0D12-4A10-8974-C38DDA1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B77-C7E8-4F48-BED4-6B56D40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16D5-DCC1-4B73-9139-7F8A940575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nday, November 24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Give back/Go over test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389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, 3, 7 &amp; 9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ing Trig Ident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 “verify” means to show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steps needed to prove one side of an equation is equal to the o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ps for verify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only one side of the equation (the most “complicated”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identity properties given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converting everything into one trig function (sines and cosines are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gebraic concepts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 the following probl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os x  Sec x =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cot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(sec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– 1) = 1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(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+ 1)(1 -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 = 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.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= (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-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cosx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0:08Z</dcterms:created>
  <dc:creator>jnewman</dc:creator>
  <dc:description/>
  <dc:language>en-US</dc:language>
  <cp:lastModifiedBy>abeason</cp:lastModifiedBy>
  <dcterms:modified xsi:type="dcterms:W3CDTF">2008-11-24T15:29:52Z</dcterms:modified>
  <cp:revision>19</cp:revision>
  <dc:subject/>
  <dc:title>Lesson 5.2 part one</dc:title>
</cp:coreProperties>
</file>